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884-1446-4021-9221-0486013D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47F-561C-43DC-8DC9-4439FE28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008-F4B3-455D-A967-FC940FE1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F18-1D73-49FE-94A1-45D831EA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295-387B-476B-9880-26C2F553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149-0B46-4618-AC83-BB9F3AF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989-A961-4CA3-A9CA-ADA147E7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4CA-6807-454E-BF64-0525CAB2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77E-F308-4D74-80F4-559542E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899-D631-4AD3-AC98-56A7FE38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F34-4CCB-41F0-B529-9387955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FC7-BCD4-4222-AE49-63F9CF2A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E79-B835-4E0E-B5CF-2E9A48E3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a linear equations using a tabl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of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raph of an equation is a straight line on a coordinate plane that shows all the points (x,y) that are solutions to the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try on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up 3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1,2 and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90720" y="3733920"/>
          <a:ext cx="1447560" cy="2070000"/>
        </p:xfrm>
        <a:graphic>
          <a:graphicData uri="http://schemas.openxmlformats.org/drawingml/2006/table">
            <a:tbl>
              <a:tblPr/>
              <a:tblGrid>
                <a:gridCol w="723960"/>
                <a:gridCol w="72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867280" y="1676520"/>
            <a:ext cx="0" cy="350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040" y="4495680"/>
            <a:ext cx="434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0600" y="419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780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7800" y="5334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334120" y="1447560"/>
            <a:ext cx="1981080" cy="464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table of values to grap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x + y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7560" y="624852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Don’t forget to rewrite in fun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124080"/>
          <a:ext cx="1752480" cy="228600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05320" y="4876920"/>
            <a:ext cx="52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3716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table of values to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3429000"/>
          <a:ext cx="1752840" cy="2286000"/>
        </p:xfrm>
        <a:graphic>
          <a:graphicData uri="http://schemas.openxmlformats.org/drawingml/2006/table">
            <a:tbl>
              <a:tblPr/>
              <a:tblGrid>
                <a:gridCol w="876240"/>
                <a:gridCol w="8766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341960" y="5410080"/>
            <a:ext cx="411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4560" y="1598760"/>
            <a:ext cx="0" cy="434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llenge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table to graph 4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66680" y="2819520"/>
          <a:ext cx="1676520" cy="310500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505320" y="58672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4382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18:08Z</dcterms:created>
  <dc:creator>JRatliff</dc:creator>
  <dc:description/>
  <dc:language>en-US</dc:language>
  <cp:lastModifiedBy>CABELL BOE</cp:lastModifiedBy>
  <dcterms:modified xsi:type="dcterms:W3CDTF">2008-10-23T21:07:48Z</dcterms:modified>
  <cp:revision>4</cp:revision>
  <dc:subject/>
  <dc:title>Slide 1</dc:title>
</cp:coreProperties>
</file>